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64B2-8FD0-4E22-8B87-7FAC3D1CFE69}"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2BBE-B00D-4B65-AA68-BDC5F695A03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B82B-4ABE-4A8E-A98C-5C778CA871E2}"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B3C4-0D66-4A93-B44F-5A174CC720C3}"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260C-050C-49EC-A5BC-26431FF65633}"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A67C-928E-4729-AC45-BACC1A82DF7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29D9-5A72-45B1-B763-3DD7AD49EB34}"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2C0C-03C2-4DA1-A200-CD4EFD37A49C}"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D30A-215A-43D3-8929-D0ECFFA99EE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EAC0-121A-4614-9AC3-2F634FF1F91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C627-AF66-4919-A2A0-B2BA9E2AAC5F}"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0073-83C5-409F-BA92-606D0BFA0E69}"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130F-782F-4D17-9FA8-469BE1554F4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8AB0-5D0D-41A9-A3EE-E7C4FF97125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B647-1332-4D42-84BC-F7B24F50F02A}"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EFFC-1681-496D-9712-79FC00752A4F}"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085D-11B4-40CB-9660-29383BE6A2D7}"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ABD5-11A8-4715-B0FD-351E36224BD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1E22-CAB6-421E-8B10-6AC09C39C63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C114-4F37-4855-A801-FCF43AE2ACD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0AD1-5284-4277-A44E-D6ABC1DC65A8}"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497E-5439-4FDA-A1B9-B700A2D5AB00}"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1FF1-9587-4A14-95C4-EE65E172E87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A4B4-BAD4-4646-AC1F-8672AF3741A3}"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9F21-5E12-440F-A7EE-6674D19AEA6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B8E0-76FC-4EE1-AACD-CDB1CB5D8843}"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4656-88EC-4E12-9210-BC6E1DD1E12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B5E3-2D3D-4001-BBCC-3FBD0C5D299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E1920-681E-43E0-BF08-38CD5C6A2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E061C-5596-4998-AD3A-111AEC8EC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BACBA-9B81-4ECF-8F16-B2EABDD88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73120-D5EA-417A-BD08-C9473E24A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AF18A-6589-450B-8651-AA4850A31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C4118-C6F5-4C1D-A6D7-E8A96F3E1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112EB-2416-47AD-8E74-2803CF918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9A456-6346-477F-87D3-B6D10EADF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88693-A662-4716-B2E5-9EE022392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6FAD6-EDE7-4646-BA3A-E6BE0A025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3AAE5-5D1B-403C-A83D-881C5C73C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823C8-3F3B-42C5-A9BD-83936FEC3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7E42-1884-44CC-B20C-48CC7C8654F7}"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764640"/>
            <a:ext cx="7993080" cy="5759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4.HAFTA</a:t>
            </a:r>
            <a:br>
              <a:rPr sz="3600"/>
            </a:br>
            <a:r>
              <a:rPr b="1" lang="tr-TR" sz="3600" spc="-1" strike="noStrike">
                <a:solidFill>
                  <a:srgbClr val="000000"/>
                </a:solidFill>
                <a:latin typeface="Times New Roman"/>
                <a:ea typeface="Times New Roman"/>
              </a:rPr>
              <a:t>HİKÂYE  İNCELEMESİ</a:t>
            </a:r>
            <a:br>
              <a:rPr sz="3600"/>
            </a:br>
            <a:br>
              <a:rPr sz="3600"/>
            </a:br>
            <a:br>
              <a:rPr sz="3600"/>
            </a:b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99640" y="785520"/>
            <a:ext cx="7201080" cy="5667480"/>
          </a:xfrm>
          <a:prstGeom prst="rect">
            <a:avLst/>
          </a:prstGeom>
          <a:noFill/>
          <a:ln w="0">
            <a:noFill/>
          </a:ln>
        </p:spPr>
        <p:txBody>
          <a:bodyPr anchor="t">
            <a:normAutofit fontScale="97000"/>
          </a:bodyPr>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söz yanmak için bekleyen kuru çıra ile temas eden bir kıvılcım gibi nasıl oldu bilmiyorum, üç nefer peksimet çuvalını yakalamış, titremiş gölgelere zorla dağıtıyorlardı. Vakur ve mütehammil bir ses:</a:t>
            </a:r>
            <a:endParaRPr b="0" lang="en-US" sz="1900" spc="-1" strike="noStrike">
              <a:solidFill>
                <a:srgbClr val="000000"/>
              </a:solidFill>
              <a:latin typeface="Calibri"/>
            </a:endParaRPr>
          </a:p>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Uşak’ta belki ekmek bulamazsınız. Yanınızda kalsın, diyordu.</a:t>
            </a:r>
            <a:endParaRPr b="0" lang="en-US" sz="1900" spc="-1" strike="noStrike">
              <a:solidFill>
                <a:srgbClr val="000000"/>
              </a:solidFill>
              <a:latin typeface="Calibri"/>
            </a:endParaRPr>
          </a:p>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Yine kamyon hırıldadı, homurdandı, çatırdadı ve karanlığa, rüzgâra daldı. Yer olmadığı için kılavuz Himmet, kamyonun basamağında, yanımda, ayakta duruyordu. Kamyona tutunan küçük çocuk elinin zaafını zavallılığını görmekle beraber İney’deki küçüklerin açlık feryadıyla içim dolu gibiydi. Acı acı düşünüyorum. Bu kaç senedir gezdiğim sahada kül olan, sükkânı (oturanlar) aç ve ölmeğe mahkûm olan kaçıncı köydü.</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99640" y="785520"/>
            <a:ext cx="7272360" cy="56674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	</a:t>
            </a:r>
            <a:r>
              <a:rPr b="0" lang="tr-TR" sz="2300" spc="-1" strike="noStrike">
                <a:solidFill>
                  <a:srgbClr val="000000"/>
                </a:solidFill>
                <a:latin typeface="Calibri"/>
              </a:rPr>
              <a:t>	</a:t>
            </a:r>
            <a:r>
              <a:rPr b="0" lang="tr-TR" sz="2300" spc="-1" strike="noStrike">
                <a:solidFill>
                  <a:srgbClr val="000000"/>
                </a:solidFill>
                <a:latin typeface="Calibri"/>
              </a:rPr>
              <a:t>Anadolu hilkat günlerinin ilk devrelerindeki yoksulluk, harabî ve vasıtasızlık içinde idi. Yeni Türkiye’yi inşa edecek millete yine Hazret-i Âdem’den sonraki devlere benzeyen kudret ve mesai kabiliyeti lâzımdı. Evsiz, ekmeksiz, meyus bir halk.. Dünya onların zafer destanını terennüm ederken onlar ölümün gözlerinin içine bakıyorlardı. Memleketi kim yapacak? Nasıl yapacağız? Yanımda tiz fakat sakin bir çocuk sesi:</a:t>
            </a:r>
            <a:endParaRPr b="0" lang="en-US" sz="23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	</a:t>
            </a:r>
            <a:r>
              <a:rPr b="0" lang="tr-TR" sz="2300" spc="-1" strike="noStrike">
                <a:solidFill>
                  <a:srgbClr val="000000"/>
                </a:solidFill>
                <a:latin typeface="Calibri"/>
              </a:rPr>
              <a:t>	</a:t>
            </a:r>
            <a:r>
              <a:rPr b="0" lang="tr-TR" sz="2300" spc="-1" strike="noStrike">
                <a:solidFill>
                  <a:srgbClr val="000000"/>
                </a:solidFill>
                <a:latin typeface="Calibri"/>
              </a:rPr>
              <a:t>--Burası Kuzgun deresi, teyz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899640" y="691920"/>
            <a:ext cx="720108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Başımı çevirdim. Küçük, zayıf bir yüzü vardı. Çenesine doğru uzanan yanağının derileri büzülmüş, çene iskeleti olduğu gibi seçiliyordu. Bu açlık ve yeis içinde başının öyle derunî bir sevimliliği, insanı hayata davet eden bir kudreti  vardı ki sordum: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Himmet, niçin peksimetini yemiyorsun?</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Sonra yerim teyze!</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Hele bir ye de sonra konuşalım.</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Yavaş yavaş koynundan küçük lokmalara ayırarak çıkardığı peksimeti yemesini bekledim. Çenesinin bütün iskeleti, peksimeti çiğnedikçe daha büyük vuzuhla meydana çıkıyordu. Birdenbire gocuğumun içine küçük başını almak, bilmem neden vaktiyle kendi çocuğumu uyuturken söylediğim ninniyi söylemek istedim. Fakat bu arzum çok sürmedi. Küçük kuru yüzde merhameti, zaafı men eden bir olgunluk sezdim. Sakin ve arkadaş olmasına çalıştığım bir sesle konuşmağa başladı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99640" y="928800"/>
            <a:ext cx="7272360" cy="552456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Büyük bir gururla on üç yaşında olduğunu söyledi. Yedi yaşında anasız, babasız, ihtiyar bir nine, genç bir kız kardeş, bir çift öküzle kalmıştı. Öküzlerle kocasız iki kadının tarlalarını senelerce sürmüş, ortakçılık etmiş, ninesini, kardeşini beslemiş, hatta  kız kardeşini ere vermişti. Fakat bir gün o havaliye bir hayvan hastalığı gelmiş, iki öküzü birden ölmüştü.</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Hikâyenin burası kalbimi burdu. Sordum:</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Ne yaptı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99640" y="691920"/>
            <a:ext cx="720108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Sükûnla omuzlarını silkti. Hiç, ne yapacaktı. Öküzsüz çalışmış, gündeliğe gitmiş, dul kadınların tarlalarını sürmüş, üç sene çalışmış ve nihayet iki şişman kocaman dombay almıştı.</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Hikâyenin burası yine kalbimi heyecana verdi. Kimsesiz, sekiz dokuz yaşında, kuru Anadolu’da mesaisi ile iki manda alan çocuk, bu benim anladığım bildiğim kahramanlığın en yüksek derecesi gibi bir şey. Avustralya’yı kuru topraktan mamure haline sokan, vahşi Amerika’yı mesaisi ile yenip medeniyet merkezi yapan ruhlar bu nevi ruhlardı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Dombaylar duruyor m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99640" y="691920"/>
            <a:ext cx="7272360" cy="5761080"/>
          </a:xfrm>
          <a:prstGeom prst="rect">
            <a:avLst/>
          </a:prstGeom>
          <a:noFill/>
          <a:ln w="0">
            <a:noFill/>
          </a:ln>
        </p:spPr>
        <p:txBody>
          <a:bodyPr anchor="t">
            <a:normAutofit fontScale="99000"/>
          </a:bodyPr>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defa gözlerimi yaşartan bir ifade ile ince omuzlarını silkti. Kamyon karanlık bir vadiden geçiyordu. Anadolu’da vadiler, yarlar, uçurumlar insanın muhayyilesini ve arkasını soğuk soğuk ürpertir. Hicretlerin, kavgaların, cinayet ve soygunculukların sahnesi oralardır.</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Üç ay evvel bu meş’um derede Yunanlılar Himmet Çocuk’u yakalamışlar, kesmeğe yatırmışlar, iki nefer arasında münakaşalar olmuş, biri arabasını, mandalarını alıp bırakmak, öteki öldürmek istiyormuş, nihayet salıvermek isteyen demiş ki:</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Arabasında yumurta varsa bırakalım, yoksa keselim.</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immet Çocuk’un sakin sesi titreyerek:</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Ninem yolda yesin diye iki yumurta haşladıydı, teyze... dedi,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Derenin sağ tarafındaki uçurum üstünde karanlık rüzgâr tuhaf tuhaf uluyor.Çocuk susmuş, kamyona yapışmış gidiyordu. Tabiî bir sesle:</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Seni  Uşak’a kadar götürelim, Himmet, dedim. Sen dönmekten korkmazsın, bilirim, fakat biz yolda bir yanlışlık yaparız, şoför bilmiyor.</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Olur, teyze.</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Nefer şoförün yarım aydınlıkta kayadan oyulmuş gibi sabit erkek yüzü garip bir tebessümle harekete geld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99640" y="856800"/>
            <a:ext cx="7272360" cy="559620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Uşak’a girerken düşündüm. Anadolu’da geçen senelerimle yüz haneden otuz haneye eriyerek dağılan, ölen erkeksiz ve kimsesiz köylerde Himmet Çocuk’un eşlerine tesadüf ediyor, onlara memleketin hayat tarihinde birer ışık ve nişane diye bakıyordum. Hayat diye, insanlık diye Anadolu’da ne kalmış ise gayur(çok gayretli) kadınlarıyla bu küçük gündelik kahramanların fevkalbeşer mesaisinden kalmıştı. Bunlardan bir tanesi kafamda ve kalbimde içimi kanatan bir çivi gibi saplanmış kalmışt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ntalya’dan Burdur’a gelirken, nihayetsiz kar bürümüş, bozuk, taşlı, bir yanı  uçurum, bir yanında daima eşkıya gizlenen yokuşlardan birini tırmanıyorduk. Buralarda arabalar durur, arabacılar bir araya gelir, her arabaya üç dört hayvan takarlar, arabacılar arabanın arkasına omuz verir. Bin türlü acayip sesler çıkararak teker teker her arabayı yokuşun başına çekerler. Ve çok zaman da bu kablettarihî vesaitle, terleyerek, inleyerek günlerce didişip Çine ovasına kadar getirdikleri mallarını eşkıya çeteleri alır götürür, elleri boş geldikleri yere dönerler. Böylece bir hengâme ortasında, kalınlı inceli hayvanları teşvik için birbirine karışan obalar arasında billûr gibi bir ses:</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h kadın anam! ah gel de bir kez halımı gör!..ded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28440" y="642600"/>
            <a:ext cx="72435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Kalbime ip takılmış gibi, ses gelen yere sürüklendim, on on iki yaşlarında, gocuğundan sular damlayan, el kadar güzel yüzlü, mavi gözlerini örten siyah kirpiklerinde yaş toplanmış bir çocuk arabacı gördüm. Bu da Himmet Çocuk gibi ihtiyar bir halaya bakmak için bir fevkalbeşer hayat mücadelesinde pişen bir çocuktu. Istırabının mercii olsa olsa toprak olan bir kadın kalbi oluyordu.</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âlâ Türkiye’yi bu küçük Himmet çocuklar yürütüyor. Belki hâlâ acıları bir çocuğun değil bir devin kalbi gibi sağlam olan yüreklerinden taşarsa:</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Ah kadın anam ah! gel de bir kez halımı gör! diyorlar.</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alide Edip ADIVA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şağıda bir hikâye incelemesinin nasıl yapılacağını gösteren bir örnek göreceksiniz. </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Hikâye, Halide Edip Adıvar’ın İstiklâl Savaşı yıllarında Anadolu insanın çektiği acıları ve ıstırapları anlattığı Himmet Çocuk adlı hikâyesidi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Önce hikâyenin tam metni verilecek, daha sonra Mehmet Kaplan’ın </a:t>
            </a:r>
            <a:r>
              <a:rPr b="0" i="1" lang="tr-TR" sz="2000" spc="-1" strike="noStrike">
                <a:solidFill>
                  <a:srgbClr val="000000"/>
                </a:solidFill>
                <a:latin typeface="Calibri"/>
                <a:ea typeface="Times New Roman"/>
              </a:rPr>
              <a:t>Hikâye Tahlilleri </a:t>
            </a:r>
            <a:r>
              <a:rPr b="0" lang="tr-TR" sz="2000" spc="-1" strike="noStrike">
                <a:solidFill>
                  <a:srgbClr val="000000"/>
                </a:solidFill>
                <a:latin typeface="Calibri"/>
                <a:ea typeface="Times New Roman"/>
              </a:rPr>
              <a:t>adlı eserindeki Himmet Çocuk hikâyesinin incelemesi özetlenerek sunulacaktı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Önce dikkatlice metni okuyunuz. Daha sonra incelemeye geçini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899640" y="691920"/>
            <a:ext cx="7272360" cy="5761080"/>
          </a:xfrm>
          <a:prstGeom prst="rect">
            <a:avLst/>
          </a:prstGeom>
          <a:noFill/>
          <a:ln w="0">
            <a:noFill/>
          </a:ln>
        </p:spPr>
        <p:txBody>
          <a:bodyPr anchor="t">
            <a:normAutofit/>
          </a:bodyPr>
          <a:p>
            <a:pPr marL="228600" indent="-22860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70c0"/>
                </a:solidFill>
                <a:latin typeface="Calibri"/>
              </a:rPr>
              <a:t>Himmet Çocuk adlı hikâyenin İncelemesi </a:t>
            </a:r>
            <a:endParaRPr b="0" lang="en-US" sz="21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alide Edip, hikâyesinde anlattığı şahsa seyredici bir gözle bakmıyor, daha ilk cümleden itibaren kendisi de anlattığı maceranın içine katılıyor. Kendisi de hikâye kahramanlarından birisi oluyor. Onları tanıtmakla kalmıyor, onlara karşı duymuş olduğu hisleri açıkça belirtiyor. Bu anlatış tarzına şahsî (öznel) anlatış tarzı diyebiliriz.</a:t>
            </a:r>
            <a:endParaRPr b="0" lang="en-US" sz="21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Bu durum bize daha gerçekçi ve tabii geliyor, hikâyede söz konusu olan şahısların ve olayların yazar tarafından icat edilmediğini, bizzat görülmüş ve yaşanmış olduğunu hissettiriyor. Bu da hikâyenin etkileyiciliğini arttırıyo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99640" y="785520"/>
            <a:ext cx="7272360" cy="56674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ikâye, bir röportaj edası taşıyor. Kurtuluş Savaşı esnasında Anadolu’yu bir gazeteci olarak dolaşan yazar, gördüklerini ve duyduklarını naklediyor. İzlenimlerini sanatkarane bir şekilde ifade ediyor.</a:t>
            </a:r>
            <a:endParaRPr b="0" lang="en-US" sz="21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100" spc="-1" strike="noStrike">
                <a:solidFill>
                  <a:srgbClr val="000000"/>
                </a:solidFill>
                <a:latin typeface="Calibri"/>
              </a:rPr>
              <a:t>Himmet Çocuk </a:t>
            </a:r>
            <a:r>
              <a:rPr b="0" lang="tr-TR" sz="2100" spc="-1" strike="noStrike">
                <a:solidFill>
                  <a:srgbClr val="000000"/>
                </a:solidFill>
                <a:latin typeface="Calibri"/>
              </a:rPr>
              <a:t>hikâyesinde anlatılan gerçekler, tarihî ve toplumsal bir mahiyet ve mana taşıyor. Hikâyede anlatılanlar, Türk toplumunun kaderini yansıtıyor.</a:t>
            </a:r>
            <a:endParaRPr b="0" lang="en-US" sz="21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ikâye, </a:t>
            </a:r>
            <a:r>
              <a:rPr b="0" i="1" lang="tr-TR" sz="2100" spc="-1" strike="noStrike">
                <a:solidFill>
                  <a:srgbClr val="000000"/>
                </a:solidFill>
                <a:latin typeface="Calibri"/>
              </a:rPr>
              <a:t>Himmet Çocuk  </a:t>
            </a:r>
            <a:r>
              <a:rPr b="0" lang="tr-TR" sz="2100" spc="-1" strike="noStrike">
                <a:solidFill>
                  <a:srgbClr val="000000"/>
                </a:solidFill>
                <a:latin typeface="Calibri"/>
              </a:rPr>
              <a:t>adını taşımakla beraber, yazar burada ferdi değil toplumu göz önüne alıyor. Yazarın gözünde Himmet Çocuk, Anadolu’nun ruhunu, yiğitlik, kahramanlık, ahlâk ve cesaretini temsil eder.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99640" y="1071360"/>
            <a:ext cx="7272360" cy="538164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alide Edib’in Himmet Çocuk’u Avustralya ve Amerika’da medeniyet kuran insanlara benzetmesi ve ona bir nevi kahraman gözüyle bakması dikkat çekicidir. O, bu vasıfları kadın, erkek Anadolu insanlarında da bulur. Bu vasıflar Avustralya’yı kuru topraktan mamur bir ülke, Amerika’yı medeniyet merkezi haline getirmiştir. Kuru toprak ile mücadele yazara göre kahramanlık hatta kahramanlıkların en yüksek derecesid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00000" y="714240"/>
            <a:ext cx="7344000" cy="573912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azar, Anadolu’da düşmanla çarpışan insanların kahramanlıklarının farkındadır. Ona göre bu Türk’ün aslî vasfıdır. Bu kahramanlık bizi düşmandan kurtarmıştır; ancak düşmandan kurtulmak yetmemektedir. Memleketin bir an evvel mamur bir hale gelmesi gerekmektedir. Bu da ancak kuru ve vahşi tabiat ile savaşla mümkündür.</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nsanın insanla mücadelesi değil, insanın tabiatla mücadelesi. Yazarın önemle belirmek istediği fikir budur. </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Hikâyenin sonunda yazar, Himmet Çocuk’a benzeyen başka bir Anadolu çocuğunu hatırlatıyor. Hikâyede birbirini tamamlayan iki fikir üzerinde duruluyor:</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stiklâl savaşında Anadolu insanının karşılaştığı ıstırap ve felaket,</a:t>
            </a:r>
            <a:endParaRPr b="0" lang="en-US" sz="20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899640" y="856800"/>
            <a:ext cx="7272360" cy="5596200"/>
          </a:xfrm>
          <a:prstGeom prst="rect">
            <a:avLst/>
          </a:prstGeom>
          <a:noFill/>
          <a:ln w="0">
            <a:noFill/>
          </a:ln>
        </p:spPr>
        <p:txBody>
          <a:bodyPr anchor="t">
            <a:normAutofit/>
          </a:bodyPr>
          <a:p>
            <a:pPr marL="228600" indent="-2286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b) Anadolu insanının ona karşı koyuşu. </a:t>
            </a:r>
            <a:endParaRPr b="0" lang="en-US" sz="22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a heyecan veren şey, Anadolu insanının daha çocuk yaşında felaket ve ıstıraplara karşı koyan bir ruh olgunluğuna, irade gücüne sahip olmasıdır. </a:t>
            </a:r>
            <a:endParaRPr b="0" lang="en-US" sz="22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alide Edib’in kahramanları karşısında aldığı tavır gerçekten takdire değer bir tutumdur. O, kahramanlarını küçümsemiyor, onlarla dalga geçmiyor; aksine onları seviyor ve yüceltiyor. Hatta hayranlık duyuy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olaylar kronolojik bir sıraya göre anlatılmıştı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ın Himmet Çocuk’a rastlayana kadar karşılaştığı manzarala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mmet Çocuk, onun şahsiyeti ve karakteri</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mmet Çocuk’a benzeyen başka bir Anadolu çocuğunun hatırası ve sonuç</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mekâna geniş yer verilmiştir. Bunun sebebi, hikâyede söz konusu olan insanlarla mekân (Anadolu) arasında sıkı bir münasebet bulunmasıdı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899640" y="1142640"/>
            <a:ext cx="7201080" cy="531036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nadolu insanı sert ve haşin bir tabiatla karşı karşıyadır. Kaderini de bu vahşi tabiat belirler. Anadolu insanının içinde yaşadığı şartlar zordur. Onlar bu şartlara katlanmak ve onları yenmek suretiyle bugüne kadar yaşayabilmişlerdi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söz konusu olan şahıslar, başta yazarın kendisi, köylüler, Himmet Çocuk ve Himmet Çocuk’a benzer diğer çocukl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ye adını veren Himmet Çocuk on üç yaşındadır. Yedi yaşında anasız babasız kalmış, ihtiyar ninesi ile kız kardeşine o bakmıştır. </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ciyi ilgilendiren en önemli mesele, İstiklâl harbinde harabeye dönen Anadolu’nun nasıl kalkınacağı meselesidir. Yazar, Anadolu insanını ve çocuklarını yakından tanıdıktan sonra bu soruya:</a:t>
            </a:r>
            <a:r>
              <a:rPr b="0" lang="tr-TR" sz="2200" spc="-1" strike="noStrike">
                <a:solidFill>
                  <a:srgbClr val="000000"/>
                </a:solidFill>
                <a:latin typeface="Calibri"/>
              </a:rPr>
              <a:t>	</a:t>
            </a:r>
            <a:r>
              <a:rPr b="0" lang="tr-TR" sz="2200" spc="-1" strike="noStrike">
                <a:solidFill>
                  <a:srgbClr val="000000"/>
                </a:solidFill>
                <a:latin typeface="Calibri"/>
              </a:rPr>
              <a:t>«Himmet Çocuk ve ona benzeyen çocuklarla!» cevabını verir. Bu hikayede Himmet Çocuk, bir tek insan değil,</a:t>
            </a:r>
            <a:r>
              <a:rPr b="0" lang="tr-TR" sz="2200" spc="-1" strike="noStrike">
                <a:solidFill>
                  <a:srgbClr val="ff0000"/>
                </a:solidFill>
                <a:latin typeface="Calibri"/>
              </a:rPr>
              <a:t> </a:t>
            </a:r>
            <a:r>
              <a:rPr b="0" lang="tr-TR" sz="2200" spc="-1" strike="noStrike">
                <a:solidFill>
                  <a:srgbClr val="000000"/>
                </a:solidFill>
                <a:latin typeface="Calibri"/>
              </a:rPr>
              <a:t>binlerce benzerini , toptan Anadolu insanını temsil eden bir </a:t>
            </a:r>
            <a:r>
              <a:rPr b="1" lang="tr-TR" sz="2200" spc="-1" strike="noStrike">
                <a:solidFill>
                  <a:srgbClr val="000000"/>
                </a:solidFill>
                <a:latin typeface="Calibri"/>
              </a:rPr>
              <a:t>tip</a:t>
            </a:r>
            <a:r>
              <a:rPr b="0" lang="tr-TR" sz="2200" spc="-1" strike="noStrike">
                <a:solidFill>
                  <a:srgbClr val="000000"/>
                </a:solidFill>
                <a:latin typeface="Calibri"/>
              </a:rPr>
              <a:t>t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899640" y="691920"/>
            <a:ext cx="7272360" cy="576108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Hikâyede yazar, gerçeği canlı bir şekilde tasvir eden izlenimci bir ifade tarzı kullanır. Tabiatı ve insanı anlatırken objektif vasıflarını anlatmakla yetinmez, kendisinde uyandırdığı hislerden de açıkça bahseder:</a:t>
            </a:r>
            <a:endParaRPr b="0" lang="en-US" sz="2000" spc="-1" strike="noStrike">
              <a:solidFill>
                <a:srgbClr val="000000"/>
              </a:solidFill>
              <a:latin typeface="Calibri"/>
            </a:endParaRPr>
          </a:p>
          <a:p>
            <a:pPr marL="228600" indent="-2286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Köy, kısmen yanmış, perişandı. Herkes, fersiz ve şaşkın gözlerle kamyon denilen canavarın bî-lüzum gürültüsüne bakıyordu.»</a:t>
            </a:r>
            <a:endParaRPr b="0" lang="en-US" sz="20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azar, tabiatı ve insanları statik değil, dinamik olarak tasvir ediyor. </a:t>
            </a:r>
            <a:endParaRPr b="0" lang="en-US" sz="20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Himmet Çocuk hikâyesi, dil bakımından bazı aksaklıklarına rağmen, işlediği konu, canlı tasvirleri ve üslubundaki şahsilikle övgüyü hak ediy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899640" y="765000"/>
            <a:ext cx="7272360" cy="56167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ynakça</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KSARAYLI, İsmail (2007), Yükseköğretim Öğrencileri İçin Türk Dili, Manisa: Emek Matbaacılık.</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KER, Süer(2003), Çağdaş Türk Dili, Ankara: Akçağ  Yayınları.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MİROSMANOĞLU, Ali, Türkçe-Kompozisyon, Emek Matbaası, Manisa 2006</a:t>
            </a:r>
            <a:r>
              <a:rPr b="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ÜNEŞ, Sezai(2004), Türk Dili Bilgisi, İzmir: Çağlayan Matbaas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PLAN, Mehmet (2005), Hikâye Tahlilleri, Dergâh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Slayt Numarası Yer Tutucusu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9494-FE78-421D-B009-0B6E577B10BA}"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99640" y="691920"/>
            <a:ext cx="7016760" cy="5761080"/>
          </a:xfrm>
          <a:prstGeom prst="rect">
            <a:avLst/>
          </a:prstGeom>
          <a:noFill/>
          <a:ln w="0">
            <a:noFill/>
          </a:ln>
        </p:spPr>
        <p:txBody>
          <a:bodyPr anchor="t">
            <a:normAutofit/>
          </a:bodyPr>
          <a:p>
            <a:pPr marL="228600" indent="-228600"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HİMMET ÇOCUK </a:t>
            </a:r>
            <a:endParaRPr b="0" lang="en-US" sz="1900" spc="-1" strike="noStrike">
              <a:solidFill>
                <a:srgbClr val="000000"/>
              </a:solidFill>
              <a:latin typeface="Calibri"/>
            </a:endParaRPr>
          </a:p>
          <a:p>
            <a:pPr marL="228600" indent="-228600"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900" spc="-1" strike="noStrike">
                <a:solidFill>
                  <a:srgbClr val="000000"/>
                </a:solidFill>
                <a:latin typeface="Calibri"/>
                <a:ea typeface="Times New Roman"/>
              </a:rPr>
              <a:t> </a:t>
            </a:r>
            <a:r>
              <a:rPr b="0" i="1" lang="tr-TR" sz="1900" spc="-1" strike="noStrike">
                <a:solidFill>
                  <a:srgbClr val="000000"/>
                </a:solidFill>
                <a:latin typeface="Calibri"/>
                <a:ea typeface="Times New Roman"/>
              </a:rPr>
              <a:t>Halide Edib Adıvar (1882 - 1964)</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Elvanlar’ da ihtiyar bir kılavuz aldık. Köy kısmen yanmış, perişan, herkes fersiz ve şaşkın gözlerle kamyon denilen canavarın bî-lüzum gürültüsüne bakıyordu. Herkesin ruhunda sonu gelmeyen meşakkatin, açlığın, her günün gizli felaket ihtimallerinin yoğurduğu yeis ve lâkaydî vardı. Onun için kimse Uşak’a kadar gelmek istemiyordu. Parayı ne yapacaklardı? Ne alırdı ki? Yalnız zayıf yüzlü bir ihtiyar halsiz bir sesle:</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Ben İney’e kadar yolu biliyorum. Fakat beni Uşak’a götürürseniz ve bana orada bir okka tuz verirseniz gelirim, dedi. Akşam karanlığı basarken kamyon mırıldanarak, homurdanarak Anadolu’nun ıssız, yolsuz beyabanına daldı.</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99640" y="691920"/>
            <a:ext cx="7201080" cy="5761080"/>
          </a:xfrm>
          <a:prstGeom prst="rect">
            <a:avLst/>
          </a:prstGeom>
          <a:noFill/>
          <a:ln w="0">
            <a:noFill/>
          </a:ln>
        </p:spPr>
        <p:txBody>
          <a:bodyPr anchor="t">
            <a:normAutofit/>
          </a:bodyPr>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Kamyonda İstanbul gazetecileri vardı. Yunan ordusunun emsalsiz mezaliminin külleri ve facia sahnesi üstünde tetkikat yapacaklar, ben cephenin Yunan mezalimi raporunu hazırlarken onlar da ajansla Türk’ün felâketini dünyaya bildireceklerdi. Anadolu’da hâkim, insan değil tabiattır. Kuytu ormanlar, batak ovalar, sarp keskin yokuşlar, sonra karanlık kımıldıyormuş gibi insanı keserek,  dondurarak esen acı rüzgârın ortasından binbir zahmetle bilmem kaç saat geçti. </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rPr>
              <a:t>İney, bir derenin yamacından kurşunî bir yangın harabesine inkılâp eden bir köydü. Kamyon hırlayarak, çırpınarak köyün yoluna girerken dünyada hilkat-i Adem başlamış gibi etraf insan sesinden, hayatından âriydi. Yalnız bir sürü çakal acı acı, karanlık esiyormuş gibi dereyi yalayıp geçen rüzgârla hem-âhenk uluyordu. İçimden :</a:t>
            </a:r>
            <a:endParaRPr b="0" lang="en-US" sz="1900" spc="-1" strike="noStrike">
              <a:solidFill>
                <a:srgbClr val="000000"/>
              </a:solidFill>
              <a:latin typeface="Calibri"/>
            </a:endParaRPr>
          </a:p>
          <a:p>
            <a:pPr marL="228600" indent="-228600" algn="just">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899640" y="856800"/>
            <a:ext cx="7201080" cy="559620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	</a:t>
            </a:r>
            <a:r>
              <a:rPr b="0" lang="tr-TR" sz="2100" spc="-1" strike="noStrike">
                <a:solidFill>
                  <a:srgbClr val="000000"/>
                </a:solidFill>
                <a:latin typeface="Calibri"/>
              </a:rPr>
              <a:t>	</a:t>
            </a:r>
            <a:r>
              <a:rPr b="0" lang="tr-TR" sz="2100" spc="-1" strike="noStrike">
                <a:solidFill>
                  <a:srgbClr val="000000"/>
                </a:solidFill>
                <a:latin typeface="Calibri"/>
              </a:rPr>
              <a:t>-- Eyvah, köyden hepsi gitmiş, nasıl tahkikat yapacağız? diyordum.</a:t>
            </a:r>
            <a:endParaRPr b="0" lang="en-US" sz="21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	</a:t>
            </a:r>
            <a:r>
              <a:rPr b="0" lang="tr-TR" sz="2100" spc="-1" strike="noStrike">
                <a:solidFill>
                  <a:srgbClr val="000000"/>
                </a:solidFill>
                <a:latin typeface="Calibri"/>
              </a:rPr>
              <a:t>	</a:t>
            </a:r>
            <a:r>
              <a:rPr b="0" lang="tr-TR" sz="2100" spc="-1" strike="noStrike">
                <a:solidFill>
                  <a:srgbClr val="000000"/>
                </a:solidFill>
                <a:latin typeface="Calibri"/>
              </a:rPr>
              <a:t>--Biraz sonra sağda bir kaya kovuğunda kızıl bir alevin önünde ısınan iki hâki gölgenin kımıldadığını gördüm. Karanlık dereye, kurşunî yangın harabesi olan yamaca vuran yegâne ışık bu ateş ve kamyonun yürüyen iki göze benzeyen fenerleriydi. Köprünün önünde şoför kocaman, âtıl makineyi durdurmaya çalışırken önünde birkaç karaltı kımıldadı. Sonra ışığın beyazlattığı taşlı yolda siyah cübbeli beyaz sarıklı, siyah sakallı bir adam, arkasındaki henüz ışığın sahasına giremeyen karaltı halindeki arkadaşlarından ayrıldı.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99640" y="714240"/>
            <a:ext cx="7016760" cy="5857920"/>
          </a:xfrm>
          <a:prstGeom prst="rect">
            <a:avLst/>
          </a:prstGeom>
          <a:noFill/>
          <a:ln w="0">
            <a:noFill/>
          </a:ln>
        </p:spPr>
        <p:txBody>
          <a:bodyPr anchor="t">
            <a:normAutofit fontScale="99000"/>
          </a:bodyPr>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iç unutamayacağım vazıh bir sesle:</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alide Onbaşı, sizi biz İney istasyonunda bekliyorduk, dedi.</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Geleceğimizi nereden biliyordunuz?</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İstasyonda biliyorlar. Tahkik heyeti gelecek, dediler.</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sesten gazeteci arkadaşlar hemen harekete geldiler, kalem kâğıt çıkardılar, kamyondan fırladılar, karaltılardan tahkike başladılar. Kaç ev yandı? Kaç kişi öldü?.. Siyah sakallı adam yanıma geldi. Fenerlerin verebildiği ışıkla notlarıma yiyecek gibi baktı.</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Kaç ev mi? Bütün köy yandı. Kaç adam mı öldü? Sayısını Allah bilir. Eşkıya gelir öldürür, düşman gelir öldürür, yakar soyar. Görüyorsunuz ya ne ev, ne yiyecek, ne giyecek var. Sen onları şimdi bırak, İsmet Paşa’ya başka şey söyle!</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899640" y="714240"/>
            <a:ext cx="7272360" cy="573912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enim işim bunları yazmak </a:t>
            </a: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iraz daha hırçın ve sesi titrek:</a:t>
            </a:r>
            <a:r>
              <a:rPr b="0" lang="tr-TR" sz="1900" spc="-1" strike="noStrike">
                <a:solidFill>
                  <a:srgbClr val="000000"/>
                </a:solidFill>
                <a:latin typeface="Calibri"/>
              </a:rPr>
              <a:t>	</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Senin işin bizim halimizi söylemek... Kaç ev yandı, kaç kişi öldü, karnımızı doyurur, başımızı örtecek dam yapar mı? İsmet Paşa’ya söyle...</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Sesinde hayat için mücadele edenlerin âmiriyeti vardı; muti, sordum.</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Ne söyleyeyim?</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Ev isteriz, rüzgâr bıçak gibi kesiyor, çocukların başını sokacak kovuk bile yok. Uşak’ta birçok kereste ve Yunan esiri varmış, bunlardan bize verilmesini emretsin. Hemen kendimize dam yapalım.</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99640" y="856800"/>
            <a:ext cx="7016760" cy="5596200"/>
          </a:xfrm>
          <a:prstGeom prst="rect">
            <a:avLst/>
          </a:prstGeom>
          <a:noFill/>
          <a:ln w="0">
            <a:noFill/>
          </a:ln>
        </p:spPr>
        <p:txBody>
          <a:bodyPr anchor="t">
            <a:normAutofit fontScale="98000"/>
          </a:bodyPr>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Ekmek isteriz, askerî ambarlarda buğday var, bir saat ötede... Emretsin bize versinler, çiğ olsun çocuklarımıza yedirelim. (Sesi acıyla, merhametle yırtılarak devam etti) Büyükler söz anlıyor, sesi çıkmıyor ama çocuklar söz anlamıyor, açlıktan hep ağlıyorlar, sabaha kadar ağlıyorlar, bunu Paşa’ya söyle..</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Çakal ulumasıyla, rüzgârın, iniltisi arkasından öyle zannettim ki aç çocuklar ağlıyor, göğsü sütsüz, boş, sırtı çıplak analar yumruklarını sallayarak dünyaya, talihe, hayata haykırıyorlar.</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Yazdım, dedim. Şimdi bize Uşak’a kadar bir kılavuz verin.</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erkes birbiriyle konuştu; biraz meşveret etti, sonra:</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Şu çocuk sizi şoseye çıkarsın, dedile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99640" y="691920"/>
            <a:ext cx="720108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Kocaman kurt derisi gocuk, kalın çizmeler, yün başlık artık ısıtmıyor, yakıyordu. Bütün gün yemek yememiştik. Yanımızda ihtiyaten alınmış yarım çuval peksimet vardı ki o da daha ziyade yanımdaki şoförle kamyondaki iki muhafız askere aitti. Fakat ne onlar, ne arkadaşlar, biraz evvel açlıktan şikâyet ettikleri  halde, yemek arzusundan bir günahmış gibi bahsetmiyorlardı. Yalnız makineyi düzeltmekle meşgul görünen nefer şoförün bir şey söylemeden içini yakan bir arzusu kalbime geçti, yavaşça:</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Peksimeti köylülere verelim mi? dedi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pc</cp:lastModifiedBy>
  <dcterms:modified xsi:type="dcterms:W3CDTF">2018-04-23T19:28:39Z</dcterms:modified>
  <cp:revision>110</cp:revision>
  <dc:subject/>
  <dc:title>Slayt 1</dc:title>
</cp:coreProperties>
</file>